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relation plots of weight-for-height, height-for-age and weight-for-age Z-scores among children aged 6–59 months in Somalia using survey data from 2007 to 201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aps showing the observed prevalence of wasting (I), stunting (II) and underweight (II) by survey cluster between 2007 and 2010 in Somalia. The country is divided into three main zones: South Central (A), North East (B) and North West (C). Seventy eight clusters were sampled in the North West zone, 85 clusters in the North East zone and 903 clusters in the South Central zone. The country's two main rivers, Juba and Shebelle, are located in the South Central zo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aps of the relationships of the spatial distribution of residual relative risks common to: (I) wasting and stunting; (II) stunting and underweight; and (III) wasting and underweight among children aged 6–59 months in Somalia. Each map is plotted at 1×1 km spatial resolution. South Central (A), North East (B) and North West (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stimated shared components classified at 95% credible level among children aged 6–59 months using the marginal probabilities calculated using the quintile correction (QC) method.35 I=Wasting and Stunting, II=Stunting and Underweight, III=Wasting and Underweight. South Central (A), North East (B) and North West (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ssessing comorbidity and correlates of wasting and stunting among children in Somalia using cross-sectional household surveys: 2007 to 2010</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Damaris K Kinyoki, Ngianga-Bakwin Kandala, Samuel O Manda, Elias T Krainski, Geir-Arne Fuglstad, Grainne M Moloney, James A Berkley, and Abdisalan M Noo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 Ope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6(3):e00985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rch 9, 201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6 by British Medical Journal Publishing Group</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748720" y="6840360"/>
            <a:ext cx="900000" cy="576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relation plots of weight-for-height, height-for-age and weight-for-age Z-scores among children aged 6–59 months in Somalia using survey data from 2007 to 2010.</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748720" y="6840360"/>
            <a:ext cx="900000" cy="576360"/>
          </a:xfrm>
          <a:prstGeom prst="rect">
            <a:avLst/>
          </a:prstGeom>
          <a:ln w="0">
            <a:noFill/>
          </a:ln>
        </p:spPr>
      </p:pic>
      <p:pic>
        <p:nvPicPr>
          <p:cNvPr id="48" name="" descr=""/>
          <p:cNvPicPr/>
          <p:nvPr/>
        </p:nvPicPr>
        <p:blipFill>
          <a:blip r:embed="rId2"/>
          <a:stretch/>
        </p:blipFill>
        <p:spPr>
          <a:xfrm>
            <a:off x="739800" y="2349360"/>
            <a:ext cx="8604360" cy="285300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maris K Kinyoki et al. BMJ Open 2016;6:e00985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6 by British Medical Journal Publishing Group</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aps showing the observed prevalence of wasting (I), stunting (II) and underweight (II) by survey cluster between 2007 and 2010 in Somalia.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748720" y="6840360"/>
            <a:ext cx="900000" cy="576360"/>
          </a:xfrm>
          <a:prstGeom prst="rect">
            <a:avLst/>
          </a:prstGeom>
          <a:ln w="0">
            <a:noFill/>
          </a:ln>
        </p:spPr>
      </p:pic>
      <p:pic>
        <p:nvPicPr>
          <p:cNvPr id="53" name="" descr=""/>
          <p:cNvPicPr/>
          <p:nvPr/>
        </p:nvPicPr>
        <p:blipFill>
          <a:blip r:embed="rId2"/>
          <a:stretch/>
        </p:blipFill>
        <p:spPr>
          <a:xfrm>
            <a:off x="739800" y="2004840"/>
            <a:ext cx="8604360" cy="354204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maris K Kinyoki et al. BMJ Open 2016;6:e00985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6 by British Medical Journal Publishing Group</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aps of the relationships of the spatial distribution of residual relative risks common to: (I) wasting and stunting; (II) stunting and underweight; and (III) wasting and underweight among children aged 6–59 months in Somalia.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748720" y="6840360"/>
            <a:ext cx="900000" cy="576360"/>
          </a:xfrm>
          <a:prstGeom prst="rect">
            <a:avLst/>
          </a:prstGeom>
          <a:ln w="0">
            <a:noFill/>
          </a:ln>
        </p:spPr>
      </p:pic>
      <p:pic>
        <p:nvPicPr>
          <p:cNvPr id="58" name="" descr=""/>
          <p:cNvPicPr/>
          <p:nvPr/>
        </p:nvPicPr>
        <p:blipFill>
          <a:blip r:embed="rId2"/>
          <a:stretch/>
        </p:blipFill>
        <p:spPr>
          <a:xfrm>
            <a:off x="739800" y="2001960"/>
            <a:ext cx="8604360" cy="354960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maris K Kinyoki et al. BMJ Open 2016;6:e00985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6 by British Medical Journal Publishing Grou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stimated shared components classified at 95% credible level among children aged 6–59 months using the marginal probabilities calculated using the quintile correction (QC) method.35 I=Wasting and Stunting, II=Stunting and Underweight, III=Wasting and Underweight.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748720" y="6840360"/>
            <a:ext cx="900000" cy="576360"/>
          </a:xfrm>
          <a:prstGeom prst="rect">
            <a:avLst/>
          </a:prstGeom>
          <a:ln w="0">
            <a:noFill/>
          </a:ln>
        </p:spPr>
      </p:pic>
      <p:pic>
        <p:nvPicPr>
          <p:cNvPr id="63" name="" descr=""/>
          <p:cNvPicPr/>
          <p:nvPr/>
        </p:nvPicPr>
        <p:blipFill>
          <a:blip r:embed="rId2"/>
          <a:stretch/>
        </p:blipFill>
        <p:spPr>
          <a:xfrm>
            <a:off x="739800" y="1968480"/>
            <a:ext cx="8604360" cy="361620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maris K Kinyoki et al. BMJ Open 2016;6:e00985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6 by British Medical Journal Publishing Group</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