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twork of contribut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Journal cocitation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lustered coauthor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erm co-occurrence density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olution of primary care databases in UK: a scientometric analysis of research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Paraskevas Vezyridis, and Stephen Timm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(10):e012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1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6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twork of contributing count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7480" y="1079640"/>
            <a:ext cx="75722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748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askevas Vezyridis, and Stephen Timmons BMJ Open 2016;6:e0127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6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urnal cocitation analy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1480" y="1079640"/>
            <a:ext cx="80024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14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askevas Vezyridis, and Stephen Timmons BMJ Open 2016;6:e0127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6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ustered coauthor net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36600" y="1079640"/>
            <a:ext cx="58136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66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askevas Vezyridis, and Stephen Timmons BMJ Open 2016;6:e0127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6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rm co-occurrence density m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66760" y="1079640"/>
            <a:ext cx="775008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67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askevas Vezyridis, and Stephen Timmons BMJ Open 2016;6:e0127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6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