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 duration (in minutes) at home on an average weekday by age and income groups (Canadian General Social Survey 2010) weighted N=28 075 6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xample of a network buffer for a 10 and 15 min walking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ffect of food environments on fruit and vegetable intake as modified by time spent at home: a cross-sectiona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tony Chum, Eddie Farrell, Tyler Vaivada, Anna Labetski, Arianne Bohnert, Inthuja Selvaratnam, Kristian Larsen, Theresa Pinter, and Patricia O'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5(6):e006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4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an duration (in minutes) at home on an average weekday by age and income groups (Canadian General Social Survey 2010) weighted N=28 075 6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67080" y="1079640"/>
            <a:ext cx="5153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670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tony Chum et al. BMJ Open 2015;5:e006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ample of a network buffer for a 10 and 15 min walking radi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440" y="1079640"/>
            <a:ext cx="70419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4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tony Chum et al. BMJ Open 2015;5:e006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