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anges in degree of proteinuria in relation to the timing of hypertension onset in the two groups. Open and closed circles indicate women with P-PE (n=10) and O-PE (n=18), respectively. *p&lt;0.001 for differences between two levels. In women with P-PE , the P/Cr levels were 1.45±1.16, 5.63±2.27 and 7.28±2.14 when diagnosed with IGP, PE and on giving birth, respectively. In women with O-PE, the P/Cr levels were 1.70±1.81 and 3.19±2.49 when diagnosed with PE and on giving birth, respectively. The duration of IGP was 10.0±5.9 days (range 3–20) and the time interval until delivery after diagnosis of PE was 6.1±8.2 days (range 0–23) in women with P-PE. The duration of GH was 4.9±6.5 days (range 0–20) and the time interval until delivery after diagnosis of PE was 5.9±6.8 days (range 0–22) in women with O-PE. GH, gestational hypertension; IGP, isolated gestational proteinuria; O-PE, other pre-eclampsia; P-PE, proteinuria preceding pre-eclampsia; P/Cr, protein-to-creatinine rati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et perinatal changes in maternal body weight. Open and closed circles indicate women with P-PE and O-PE, respectively. *p&lt;0.05 versus women with O-PE. When data on body weight for the designated days were not available, data on the day before or after the designated days were used. Net antenatal maternal weight gain was 4.2±1.7 vs 1.6±2.8 kg (p=0.074) for the last antenatal 2 weeks, 3.1±1.8 vs 1.3±1.7 kg (p=0.023) for the last antenatal 1 week and 2.2±1.4 vs 0.5±1.4 kg (p=0.005) for the last antenatal 3 days in women with P-PE versus O-PE, respectively. Corrected weight loss during 4 weeks postpartum (maternal body weight just before delivery minus the sum of infant birth weight and maternal body weight at 4 weeks postpartum) was 9.4±2.0 vs 7.3±3.8 kg (p=0.109) in women with P-PE versus O-PE, respectively. O-PE, other pre-eclampsia; P-PE, proteinuria preceding pre-eclampsi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rrelation between degree of antenatal proteinuria and antenatal blood variables. Open and closed circles indicate women with P-PE and O-PE, respectively. The highest antenatal P/Cr levels were significantly inversely correlated with either the lowest antenatal antithrombin activity levels or the lowest antenatal fibrinogen levels, but not with the lowest antenatal platelet counts, the highest antenatal uric acid levels or the highest antenatal creatinine levels. O-PE, other pre-eclampsia; P/Cr, protein-to-creatinine ratio; P-PE, proteinuria preceding pre-eclampsi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linical features of isolated gestational proteinuria progressing to pre-eclampsia: retrospective observational study</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Rina Akaishi, Takahiro Yamada, Mamoru Morikawa, Ryutaro Nishida, and Hisanori Minakami</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MJ Ope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4(4):e00487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pril 19, 2014</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4 by British Medical Journal Publishing Group</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748720" y="6840360"/>
            <a:ext cx="900000" cy="576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anges in degree of proteinuria in relation to the timing of hypertension onset in the two group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748720" y="6840360"/>
            <a:ext cx="900000" cy="576360"/>
          </a:xfrm>
          <a:prstGeom prst="rect">
            <a:avLst/>
          </a:prstGeom>
          <a:ln w="0">
            <a:noFill/>
          </a:ln>
        </p:spPr>
      </p:pic>
      <p:pic>
        <p:nvPicPr>
          <p:cNvPr id="48" name="" descr=""/>
          <p:cNvPicPr/>
          <p:nvPr/>
        </p:nvPicPr>
        <p:blipFill>
          <a:blip r:embed="rId2"/>
          <a:stretch/>
        </p:blipFill>
        <p:spPr>
          <a:xfrm>
            <a:off x="826920" y="1079640"/>
            <a:ext cx="8429760" cy="5394240"/>
          </a:xfrm>
          <a:prstGeom prst="rect">
            <a:avLst/>
          </a:prstGeom>
          <a:ln w="0">
            <a:noFill/>
          </a:ln>
        </p:spPr>
      </p:pic>
      <p:sp>
        <p:nvSpPr>
          <p:cNvPr id="49" name=""/>
          <p:cNvSpPr/>
          <p:nvPr/>
        </p:nvSpPr>
        <p:spPr>
          <a:xfrm>
            <a:off x="826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ina Akaishi et al. BMJ Open 2014;4:e004870</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4 by British Medical Journal Publishing Group</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et perinatal changes in maternal body weight.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748720" y="6840360"/>
            <a:ext cx="900000" cy="576360"/>
          </a:xfrm>
          <a:prstGeom prst="rect">
            <a:avLst/>
          </a:prstGeom>
          <a:ln w="0">
            <a:noFill/>
          </a:ln>
        </p:spPr>
      </p:pic>
      <p:pic>
        <p:nvPicPr>
          <p:cNvPr id="53" name="" descr=""/>
          <p:cNvPicPr/>
          <p:nvPr/>
        </p:nvPicPr>
        <p:blipFill>
          <a:blip r:embed="rId2"/>
          <a:stretch/>
        </p:blipFill>
        <p:spPr>
          <a:xfrm>
            <a:off x="1170000" y="1079640"/>
            <a:ext cx="7743960" cy="5394240"/>
          </a:xfrm>
          <a:prstGeom prst="rect">
            <a:avLst/>
          </a:prstGeom>
          <a:ln w="0">
            <a:noFill/>
          </a:ln>
        </p:spPr>
      </p:pic>
      <p:sp>
        <p:nvSpPr>
          <p:cNvPr id="54" name=""/>
          <p:cNvSpPr/>
          <p:nvPr/>
        </p:nvSpPr>
        <p:spPr>
          <a:xfrm>
            <a:off x="1170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ina Akaishi et al. BMJ Open 2014;4:e004870</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4 by British Medical Journal Publishing Group</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relation between degree of antenatal proteinuria and antenatal blood variable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748720" y="6840360"/>
            <a:ext cx="900000" cy="576360"/>
          </a:xfrm>
          <a:prstGeom prst="rect">
            <a:avLst/>
          </a:prstGeom>
          <a:ln w="0">
            <a:noFill/>
          </a:ln>
        </p:spPr>
      </p:pic>
      <p:pic>
        <p:nvPicPr>
          <p:cNvPr id="58" name="" descr=""/>
          <p:cNvPicPr/>
          <p:nvPr/>
        </p:nvPicPr>
        <p:blipFill>
          <a:blip r:embed="rId2"/>
          <a:stretch/>
        </p:blipFill>
        <p:spPr>
          <a:xfrm>
            <a:off x="1182600" y="1079640"/>
            <a:ext cx="7720200" cy="5394240"/>
          </a:xfrm>
          <a:prstGeom prst="rect">
            <a:avLst/>
          </a:prstGeom>
          <a:ln w="0">
            <a:noFill/>
          </a:ln>
        </p:spPr>
      </p:pic>
      <p:sp>
        <p:nvSpPr>
          <p:cNvPr id="59" name=""/>
          <p:cNvSpPr/>
          <p:nvPr/>
        </p:nvSpPr>
        <p:spPr>
          <a:xfrm>
            <a:off x="1182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ina Akaishi et al. BMJ Open 2014;4:e004870</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4 by British Medical Journal Publishing Group</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