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RISMA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the London 2012 Olympics ‘inspire a generation’ to do more physical or sporting activities? An overview of systematic re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Kamal Ram Mahtani, Joanne Protheroe, Sarah Patricia Slight, Marcelo Marcos Piva Demarzo, Thomas Blakeman, Christopher A Barton, Bianca Brijnath, and Nia Rob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MJ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(1):e0020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7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SMA flow dia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73480" y="1079640"/>
            <a:ext cx="35402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34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amal Ram Mahtani et al. BMJ Open 2013;3:e002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3 by British Medical Journal Publishing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