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articipant flow diagra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centivising safe sex: a randomised trial of conditional cash transfers for HIV and sexually transmitted infection prevention in rural Tanzania</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Damien de Walque, William H Dow, Rose Nathan, Ramadhani Abdul, Faraji Abilahi, Erick Gong, Zachary Isdahl, Julian Jamison, Boniphace Jullu, Suneeta Krishnan, Albert Majura, Edward Miguel, Jeanne Moncada, Sally Mtenga, Mathew Alexander Mwanyangala, Laura Packel, Julius Schachter, Kizito Shirima, and Carol A Medli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 Ope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e00074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8, 201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748720" y="6840360"/>
            <a:ext cx="900000" cy="57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articipant flow diagram.</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748720" y="6840360"/>
            <a:ext cx="900000" cy="576360"/>
          </a:xfrm>
          <a:prstGeom prst="rect">
            <a:avLst/>
          </a:prstGeom>
          <a:ln w="0">
            <a:noFill/>
          </a:ln>
        </p:spPr>
      </p:pic>
      <p:pic>
        <p:nvPicPr>
          <p:cNvPr id="48" name="" descr=""/>
          <p:cNvPicPr/>
          <p:nvPr/>
        </p:nvPicPr>
        <p:blipFill>
          <a:blip r:embed="rId2"/>
          <a:stretch/>
        </p:blipFill>
        <p:spPr>
          <a:xfrm>
            <a:off x="2782800" y="1079640"/>
            <a:ext cx="4518000" cy="5394240"/>
          </a:xfrm>
          <a:prstGeom prst="rect">
            <a:avLst/>
          </a:prstGeom>
          <a:ln w="0">
            <a:noFill/>
          </a:ln>
        </p:spPr>
      </p:pic>
      <p:sp>
        <p:nvSpPr>
          <p:cNvPr id="49" name=""/>
          <p:cNvSpPr/>
          <p:nvPr/>
        </p:nvSpPr>
        <p:spPr>
          <a:xfrm>
            <a:off x="2782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Damien de Walque et al. BMJ Open 2012;2:e00074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